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cashreg.wav" ContentType="audio/x-wav"/>
  <Override PartName="/ppt/media/image4.jpeg" ContentType="image/jpeg"/>
  <Override PartName="/ppt/media/image2.jpeg" ContentType="image/jpeg"/>
  <Override PartName="/ppt/media/image3.gif" ContentType="image/gif"/>
  <Override PartName="/ppt/media/chimes.wav" ContentType="audio/x-wav"/>
  <Override PartName="/ppt/media/image5.jpeg" ContentType="image/jpeg"/>
  <Override PartName="/ppt/media/projctor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5DB0-C544-42CD-B44D-EA25A8D2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924-C79D-4555-989E-A8810F90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820F-6F5C-449C-AA34-00422EC4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FCC7-2523-4E29-ADEC-398AFE05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A130-C494-4C2F-B779-ADBD634A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C9E6-9666-4C5C-B925-C49FE241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122A-3ACB-49F4-896A-349B16F0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78FF-698D-4DCF-BB85-327E47D4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1CD5-32F8-41CD-B0CD-FC19D555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8A06-0C25-4CE5-9E23-522827B5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23C8-7000-4B99-B2E1-2B38C56A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B971-C196-402F-B59D-EB12BC0F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C622-904A-47F1-A704-D698ECFD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C4E1-49FA-44EA-BD64-DEE04225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2CCB-0DD4-4F86-9EF9-FA54C49B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6086-42AF-47AD-ACDB-DB75BEE4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AF17-FEDC-424B-A66A-70102DFE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AAC-3A33-46BC-8D7B-AAC1C867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499C-843F-4383-AF74-6C82BA13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1EA8-3443-49B2-BE06-39EEB579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C751-B502-48F7-8FD8-695CDB8F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A39-0268-4286-B34F-3A5985F9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4086-661F-4045-8099-F7A5F6EE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5D7E-6955-4035-B194-7B2E2316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A64E-88E1-4854-865B-662C56588C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A66D-86F0-497A-8542-3CA3034D03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dnews.net/lady/huati/read/200211130263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1371600"/>
            <a:ext cx="84582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ahoma"/>
                <a:ea typeface="华文行楷"/>
              </a:rPr>
              <a:t>               </a:t>
            </a:r>
            <a:r>
              <a:rPr b="1" lang="zh-CN" sz="7200" spc="-1" strike="noStrike">
                <a:solidFill>
                  <a:srgbClr val="ff33cc"/>
                </a:solidFill>
                <a:latin typeface="Tahoma"/>
                <a:ea typeface="华文行楷"/>
              </a:rPr>
              <a:t>诚信伴我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ahoma"/>
                <a:ea typeface="华文行楷"/>
              </a:rPr>
              <a:t>                                     </a:t>
            </a:r>
            <a:r>
              <a:rPr b="1" lang="zh-CN" sz="7200" spc="-1" strike="noStrike">
                <a:solidFill>
                  <a:srgbClr val="ff33cc"/>
                </a:solidFill>
                <a:latin typeface="Tahoma"/>
                <a:ea typeface="华文行楷"/>
              </a:rPr>
              <a:t>—</a:t>
            </a:r>
            <a:r>
              <a:rPr b="1" lang="zh-CN" sz="7200" spc="-1" strike="noStrike">
                <a:solidFill>
                  <a:srgbClr val="ff33cc"/>
                </a:solidFill>
                <a:latin typeface="Tahoma"/>
                <a:ea typeface="华文行楷"/>
              </a:rPr>
              <a:t>主题班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ahoma"/>
                <a:ea typeface="华文行楷"/>
              </a:rPr>
              <a:t>　　　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76520" y="5181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895480" y="5181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286000" y="51814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088040" y="426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16000" y="449280"/>
            <a:ext cx="7812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       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诚信是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立身处世之本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，它要求人们言与行的一致性，“言必信，行必果”，“人无信不立”；诚信是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社会交往的基本要求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，孔子把“朋友有信”作为自己追求的人生目标之一，“与朋友交，言而有信”；诚信是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治理国家的基本准则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，“自古皆有死，民无信不立”，取信于民，是从政、执政的基本要求，不能取信于民，就不能得到民众的信任、拥护和支持，“宽则得众，信则民任”。</a:t>
            </a:r>
            <a:r>
              <a:rPr b="1" lang="zh-CN" sz="3600" spc="-1" strike="noStrike">
                <a:solidFill>
                  <a:srgbClr val="5490a8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9640" y="533520"/>
            <a:ext cx="479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Tahoma"/>
                <a:ea typeface="华文行楷"/>
              </a:rPr>
              <a:t>说说议议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6002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讨论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：你对这件事怎么看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周兵和宋杰是好朋友，他们曾经许诺，不管谁遇到困难，一定要互相帮助。这天周兵想抄宋杰的作业，宋杰没同意，他生气的说：“这点忙都不帮，真不讲信用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524240" cy="1905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11280" y="0"/>
            <a:ext cx="806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讨论</a:t>
            </a:r>
            <a:r>
              <a:rPr b="1" i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i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：她应该怎么办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王娟的爸爸参加了援藏医疗队。最近，她妈妈得了重病住进了医院。爸爸来信问到家里的情况，王娟不知道该不该把妈妈生病的事如实地告诉爸爸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4952880"/>
            <a:ext cx="1085760" cy="1578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54480" y="6707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38080" y="333360"/>
            <a:ext cx="83059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说一说：你愿意和谁交朋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）当面说好话，背后说坏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）直言不讳，大胆说自己的看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）没有把握不轻易答应，一旦答应就要尽力而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）对别人的要求满口答应，但过后就忘，不能兑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19320" y="304920"/>
            <a:ext cx="33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对对联</a:t>
            </a:r>
            <a:r>
              <a:rPr b="1" i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41720" y="1341360"/>
            <a:ext cx="458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6920" y="1905120"/>
            <a:ext cx="83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  <a:ea typeface="楷体_GB2312"/>
              </a:rPr>
              <a:t>上联：国以诚为先，无诚不兴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3048120"/>
            <a:ext cx="889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下联：民以（）为本，无（）不（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52360" y="4343400"/>
            <a:ext cx="79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横批：（        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930640" y="378000"/>
            <a:ext cx="152100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Tahoma"/>
                <a:ea typeface="楷体_GB2312"/>
              </a:rPr>
              <a:t>国以诚为先，无诚不兴；</a:t>
            </a:r>
            <a:r>
              <a:rPr b="1" lang="zh-CN" sz="40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60600" y="333360"/>
            <a:ext cx="850680" cy="65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Tahoma"/>
                <a:ea typeface="楷体_GB2312"/>
              </a:rPr>
              <a:t>民以信为本，无信不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87640" y="2708280"/>
            <a:ext cx="3024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楷体_GB2312"/>
              </a:rPr>
              <a:t>诚信是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00000" y="1413000"/>
            <a:ext cx="78501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3300"/>
                </a:solidFill>
                <a:latin typeface="Tahoma"/>
                <a:ea typeface="华文行楷"/>
              </a:rPr>
              <a:t>诚信故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3300"/>
                </a:solidFill>
                <a:latin typeface="Tahoma"/>
                <a:ea typeface="华文行楷"/>
              </a:rPr>
              <a:t>     </a:t>
            </a:r>
            <a:r>
              <a:rPr b="1" i="1" lang="zh-CN" sz="8800" spc="-1" strike="noStrike">
                <a:solidFill>
                  <a:srgbClr val="ff3300"/>
                </a:solidFill>
                <a:latin typeface="Tahoma"/>
                <a:ea typeface="华文行楷"/>
              </a:rPr>
              <a:t>大家讲—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914400"/>
            <a:ext cx="7778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诚信小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（一）《曾参杀猪取信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曾参是孔子的得意门生。一天他妻子要上集市买东西，儿子曾参哭闹着不让去，曾妻为摆脱儿子的纠缠，便哄骗他说：“你在家好好玩，你爹回家让他杀猪给你煮肉吃。”等曾妻赶集回来一看，家里那只黑猪已变成一堆白肉。“怎么把猪杀了？”曾参答道：“你既然已答应孩子了，就应该算数。今天你在孩子面前言而无信，明天孩子就会像你那样去哄骗别人。一口猪杀了是小事，教育孩子从小知道做人的根本，可是关系他一辈子的大事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43480" y="3200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43480" y="3200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867280" y="152280"/>
            <a:ext cx="2667240" cy="2133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42920" y="380880"/>
            <a:ext cx="77072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二）《司马光诚对买马人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宋神宗时司马光声言闭门著书，吩咐家人将他的坐骑卖掉。家人与一位老者谈妥五十钱，第二天成交。司马光听了家人的汇报后说：“这马有病，我怎么忘了交待？明天你要对买主说清楚，这马有肺病。”家人说：“做买卖，哪有全说实话了？”司马光道：“话可不能这么说，让人家用一匹好马的钱买一匹病马，这不是骗人是什么？这样的事咱不能干。”左邻右舍知道这件事后，纷纷称赞司马光为人诚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00000" y="228600"/>
            <a:ext cx="7850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（三）《宋庆龄的故事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在宋庆龄小的时候，一天早晨，一家人正准备去李伯伯家做客。突然，她告诉父母：“我和小珍约好，今天上午我要教她叠纸花，我不去李伯伯家了。” 爸爸说：“以后再教吧！明天再和她解释一下，再说，李伯伯家有你喜欢的鸽子，你不去会后悔的！” “不会，”宋庆龄想了想，说：“你们去吧，我在家等她，我不能失信。” 妈妈想了想，说：“就按她的意思吧！有句话说：‘言必信，行必果’。一个有道德的人要讲信用，不能自食其言。” 就这样，宋庆龄一个人在家等小珍。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点了，小珍还没来，宋庆龄十分失望。中午，父母回来了，听宋庆龄说小珍没来，爸爸说：“唉！要知道她不来，就不等她了。”宋庆龄却说：“不。没有来，我也要等。虽然没有等到，但我心里很坦然。”宋庆龄就是这样，从幼年起，终身都要求自己恪守信用，决不自食其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914400" y="-457200"/>
            <a:ext cx="7923240" cy="5714640"/>
            <a:chOff x="914400" y="-457200"/>
            <a:chExt cx="7923240" cy="5714640"/>
          </a:xfrm>
        </p:grpSpPr>
        <p:sp>
          <p:nvSpPr>
            <p:cNvPr id="144" name=""/>
            <p:cNvSpPr/>
            <p:nvPr/>
          </p:nvSpPr>
          <p:spPr>
            <a:xfrm>
              <a:off x="914400" y="-457200"/>
              <a:ext cx="6008760" cy="57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914400" y="-457200"/>
              <a:ext cx="7923240" cy="2161800"/>
              <a:chOff x="914400" y="-457200"/>
              <a:chExt cx="7923240" cy="2161800"/>
            </a:xfrm>
          </p:grpSpPr>
          <p:sp>
            <p:nvSpPr>
              <p:cNvPr id="146" name=""/>
              <p:cNvSpPr/>
              <p:nvPr/>
            </p:nvSpPr>
            <p:spPr>
              <a:xfrm>
                <a:off x="914400" y="-457200"/>
                <a:ext cx="600876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914400" y="-457200"/>
                <a:ext cx="7923240" cy="21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         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    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(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四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)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郭汲不失信于孩子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郭汲，东汉人，官至大司空、太中大夫。他一贯注重恩德，在当时声誉很好。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郭汲在并州任职时，一次下去考察，途经美稷县，当地的孩子们闻讯后，自发地聚集到一起夹道欢迎他。郭汲不知情，就问：“小朋友，你们这是在干什么呀？”孩子们回答说：“听说您要来，我们特来欢迎！”郭汲闻言赶忙下马，一一答谢。在美稷县办完事后，孩子们又闻讯赶来送郭汲，并问他什么时候返回。郭汲立即让随从计算返程的日期，告诉了他们。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由于事情办得十分顺利，返回美稷县的日子比预期早了一天，但为了不失信于孩子们，郭汲下令在县城外的野亭露宿一晚，等到第二天才入城…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)  6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瓶啤酒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925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　   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早年，尼泊尔的喜马拉雅山南麓很少有外国人涉足。后来，许多日本人到这里观光旅游，据说这是源于一位少年的诚信。一天，几位日本摄影师请当地一位少年代买啤酒，这位少年为之跑了３个多小时。第二天，那个少年又自告奋勇地再替他们买啤酒。这次摄影师们给了他很多钱，但直到第三天下午那个少年还没回来。于是，摄影师们议论纷纷，都认为那个少年把钱骗走了。第三天夜里，那个少年却敲开了摄影师的门。原来，他只购得４瓶啤酒，尔后，他又翻了一座山，趟过一条河才购得另外６瓶，返回时摔坏了３瓶。他哭着拿着碎玻璃片，向摄影师交回零钱，在场的人无不动容。这个故事使许多外国人深受感动。后来，到这儿的游客就越来越多……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925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095880" y="5029200"/>
            <a:ext cx="1676520" cy="1327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762120" y="1905120"/>
            <a:ext cx="7772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请听几则小短文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71640" y="174600"/>
            <a:ext cx="8172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诚</a:t>
            </a:r>
            <a:r>
              <a:rPr b="1" lang="zh-CN" sz="3600" spc="-1" strike="noStrike">
                <a:solidFill>
                  <a:srgbClr val="5490a8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其本义指真实不欺，诚实无妄；诚实，就是说老实话、办老实事，不弄虚作假，不隐瞒欺骗，不自欺欺人，表里如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信</a:t>
            </a:r>
            <a:r>
              <a:rPr b="1" lang="zh-CN" sz="3600" spc="-1" strike="noStrike">
                <a:solidFill>
                  <a:srgbClr val="5490a8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其本义指在处理人际关系时真诚无欺，忠实于自己的诺言和义务；守信，就是要“讲信用”、“守诺言”，也就是要“言而有信”、“诚实不欺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90a8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诚实守信</a:t>
            </a:r>
            <a:r>
              <a:rPr b="1" lang="zh-CN" sz="3600" spc="-1" strike="noStrike">
                <a:solidFill>
                  <a:srgbClr val="5490a8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是人和人之间正常交往、社会生活能够稳定、经济秩序得以保持和发展的重要力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4:16:5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11:45Z</dcterms:modified>
  <cp:revision>31</cp:revision>
  <dc:subject>主题班会课件(分28大类): http://shop62905894.taobao.com</dc:subject>
  <dc:title>主题班会课件(分28大类): http://shop62905894.taobao.com</dc:title>
</cp:coreProperties>
</file>